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D7BD-A7B8-45F6-AD1A-D0092E26C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FDE8-F7D2-4FEC-B034-6AF97A5E6C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9CB8-0F41-44B9-A6BF-CAC01361F4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A6FB-D7A3-44FD-B63A-123CC0D778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9AB5-C78A-46AA-BC4F-4E8C2C5050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1F6E-E41F-4D72-B598-B0ED805878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7BE3-35DD-4A69-A942-3EEE4F3BF6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9DE2-784F-456D-8A98-8C007D5090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CA35-3C81-4241-9ECF-AFE0989DFA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4B4D-8ED6-43A9-BE60-B260D3C7C9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9947-EEAC-42FC-8465-2814B3EFAC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5CEF-B48B-4A91-B928-5A58C944D4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96CD-F59F-44F0-8A59-F3B187EA96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330B-C848-4486-8131-4518CF166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72E7-1F3A-4909-A0F9-14CEB185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D42C-514B-40F0-8248-AE17E5B3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9BC7-5AA3-4263-8614-460715639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8955-6798-4155-A2FA-BFE0C3A0D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8D76-DABE-4E5A-8C9F-9294766E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1DD4-F188-44DD-BC4E-7598E60B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03CC-3463-422A-AA15-57EF051D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4C3B-07DF-40A9-A963-73E18D21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ECD0-B0E7-4072-B3A5-CF455A86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4DBF-9E0C-410C-AA81-611C0744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164B-F93F-46EE-8DFA-B1CF8270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1882-2968-4A3C-9145-0D85F86E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4FCC-3AFB-4733-90CE-11856E30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A60C-E448-4452-B56D-AFB15692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6199-8EB7-4569-8D51-08906C00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1397-4479-472C-98D1-78158B05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20F7-08EC-454B-A683-8ECA1A04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794A-D1F7-467A-9C6A-8C4CE4DC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B1E0-DE4F-49ED-8F35-941C3935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D673-BCC0-4580-8907-54D58AC7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0062-5487-4A22-A497-E18CB7C9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8B52-F7A8-445A-BA5A-5D6DECFA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2BBE-686D-4F0D-A3BB-E90E26CC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4797-5865-474A-A4CF-72C84CB69B5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6B5F-811E-4C77-AA71-34610F6172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9C70-2D1A-4DAE-8BD8-1AAE74D0E0A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2D5B-4FE4-4E52-9B03-7B525A2A8E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0EBC-ED6B-4876-9597-01C969BC8390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5455-823D-4204-865E-DFD8973088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600" y="3808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"/>
              </a:rPr>
              <a:t>Learner Centric eLearning</a:t>
            </a:r>
            <a:endParaRPr b="1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886200" y="2971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i Crabtree &amp; Missy Gre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milton County Virtual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ttanooga, Tenness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8371-AA69-445A-B5E2-3B4EA6E6315A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AD18-F648-401A-B1D1-BBB89E60A0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eacher training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ing student pro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ing adjustments to learning paths as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ing assignments to remediate learning g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eting the student at his/her instructional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ing the student to experience su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ommunication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ekly Communication with Stu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Vis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nt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ekly Progress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 Grade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2B91-5CF1-460E-978D-2F0693674321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CB05-1FE8-4038-84AA-96C3480691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667D-BA10-46C8-9BD1-BA38C000358A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6FD0-08A6-4098-9AE0-FD4B7E2D0A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ommunication and student support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9" name="Picture 6" descr="lp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mplete Re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640080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mplete repo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48120" y="838080"/>
            <a:ext cx="5389560" cy="6483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200400" y="32004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32767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57960" y="3809880"/>
            <a:ext cx="1732320" cy="375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de stud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ide stud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am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7EF8-67D1-4D10-957E-23C29FB77C34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7FAA-70F0-4F59-8466-DC88D94476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Survey result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9" name="Picture 8" descr="Summary 1"/>
          <p:cNvPicPr/>
          <p:nvPr/>
        </p:nvPicPr>
        <p:blipFill>
          <a:blip r:embed="rId1"/>
          <a:stretch/>
        </p:blipFill>
        <p:spPr>
          <a:xfrm>
            <a:off x="3048120" y="1905120"/>
            <a:ext cx="5790960" cy="379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4C35-8918-4F9A-8F52-7EF3BE5CEE1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D6BB-B41A-456A-AD6B-275C5E8BE6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Survey result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Picture 4" descr="Summary 2"/>
          <p:cNvPicPr/>
          <p:nvPr/>
        </p:nvPicPr>
        <p:blipFill>
          <a:blip r:embed="rId1"/>
          <a:stretch/>
        </p:blipFill>
        <p:spPr>
          <a:xfrm>
            <a:off x="3048120" y="1752480"/>
            <a:ext cx="5487840" cy="4313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CF7E-3B4B-4E01-BA81-BAD1ADA3F2C7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BF9A-0503-48D1-92A6-CEA7288305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Survey result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Picture 4" descr="Summary 3"/>
          <p:cNvPicPr/>
          <p:nvPr/>
        </p:nvPicPr>
        <p:blipFill>
          <a:blip r:embed="rId1"/>
          <a:stretch/>
        </p:blipFill>
        <p:spPr>
          <a:xfrm>
            <a:off x="3048120" y="1600200"/>
            <a:ext cx="5707080" cy="4268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52A8-BA9D-48A5-A670-EB2C1F00AB1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A840-C0F7-4238-82A1-FC2598E767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Next Steps 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ki as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ware needs and tech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and support for L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ended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0B3F-54DD-4FBC-896C-9F67C8264C3A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F1F6-FBD3-4394-B447-635DAB45BA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Questions?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bi Crabt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abtree_d@hcde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@de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sy Gree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ene_michelle@hcde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46A0-ED67-497D-BDE3-A5CF2693485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905D-C99F-4FCB-BD90-7D18F07FC6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Introduction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9" name="Picture 4" descr="This is a test"/>
          <p:cNvPicPr/>
          <p:nvPr/>
        </p:nvPicPr>
        <p:blipFill>
          <a:blip r:embed="rId1"/>
          <a:stretch/>
        </p:blipFill>
        <p:spPr>
          <a:xfrm>
            <a:off x="3276720" y="1981080"/>
            <a:ext cx="5181480" cy="4408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1DB2-081E-4DB2-9760-5BE1C293372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85AD-3378-4CBD-99F1-9E3125A710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Brief history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rict-led virtual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erved up to 30 districts statewide concurren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ain flex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ress many needs:  credit recovery, teacher shortages, issues of equity, flexible scheduling, AP, student transfers . .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examples . . . Marion/Wil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8DF2-4DAE-4B90-9F87-384594ED3EC7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A76B-AD78-40D1-A9AE-ED52D2F054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National Educational Technology Plan 2010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del of the 21st century learning described in this plan calls for engaging and empowering learning experiences for all learner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ization of this type only possible with the use of 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virtual programs too closely mirror F2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ility, individualization, engaging courseware = new model of learner-centered e-learn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DE31-2FA7-4FF1-B014-A49547C5C83F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E46D-21C2-4C67-920A-786D37E62F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Regular Summer Program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gaging courseware from CompassLearning Odysse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bust diagnostic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r credit recovery learning paths aligned to standards with ability to test out of content already maste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972A-FBAC-4CA2-882D-C494F850EB07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571B-88A9-4CE6-93E3-792F6C9BA2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New summer program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tle I Elementary and Middle Sch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mum of 20 of lowest performing students in the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ld address both Math &amp; 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lab with machines running Windows XP or later or M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 facilitator - training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chase lunch and sna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 transpor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ail and small refundable registration f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F502-229A-4965-B0C8-E3D5F248882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8B7F-E5E7-4FB3-9B3B-6DB18AFDAD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Nine school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Elementary Sch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 Middle Sch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3% successfully completed their cour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4% received refunds (met attendance requirement and successfully complet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3D27-C393-46A3-A66D-72817A8EBB82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977C-C4C6-45A7-8DE2-DA1B7FC380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number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27 Course comple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 Withdraw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0 Successful completions of this progra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7 Unique stud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2% Male, 33% Fema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4% African American, 24% White, .01% Hispa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we do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804E-A363-4B7F-B26C-E1AD201FF014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9702-A481-45D5-B2BB-37943CF702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reating the learning path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s provided TCAP data and reading levels of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this data, learning paths were cre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04:09:56Z</dcterms:created>
  <dc:creator/>
  <dc:description/>
  <dc:language>en-US</dc:language>
  <cp:lastModifiedBy>Debi Crabtree</cp:lastModifiedBy>
  <cp:lastPrinted>1904-01-01T00:00:00Z</cp:lastPrinted>
  <dcterms:modified xsi:type="dcterms:W3CDTF">2010-12-01T19:03:24Z</dcterms:modified>
  <cp:revision>24</cp:revision>
  <dc:subject/>
  <dc:title>General</dc:title>
</cp:coreProperties>
</file>